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DE84D-7922-41ED-B52C-9FAD028F5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7D734-FF63-4A4D-8743-9D0BECCA9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9AFC9-4F73-46AE-9CD5-0E820CF08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79D2D-9895-470F-B5FD-8FF51065D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335E0-92F8-41AE-ABC8-A555B9CE2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8AE82-D0D4-4886-AE08-EE7F29FEC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B460F-C683-484C-B08F-D263732E4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72556-B3B3-488D-9EFE-55872BA1F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2C013-CF95-4CCB-A50B-6FD73DBF6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324E0-356A-4F12-A079-622E97DA1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465F-041F-4300-8AAD-666CC754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7E946-DFA9-443F-8379-B1D06380E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A0FD-380A-44F8-807D-4566477FD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c13c7"/>
            </a:gs>
            <a:gs pos="100000">
              <a:srgbClr val="ffff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our own experimen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alie, Anya, Megan, and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ys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how energy is transferred between two liquids that have different temper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90 degree water is mixed with the 4 degree water, the temperature of the 4 degree water will r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5092"/>
            </a:gs>
            <a:gs pos="50000">
              <a:srgbClr val="74ef53"/>
            </a:gs>
            <a:gs pos="100000">
              <a:srgbClr val="e25092"/>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eat 50 mL of water to 90 degrees Celsius in a large be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ill the other beaker with 50 mL of water, that is 4 degr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ix the 90 degrees water with the ice water and record the tempera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all steps, but change the 90 degree water to 86.2 degre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50000">
              <a:srgbClr val="f8b049"/>
            </a:gs>
            <a:gs pos="100000">
              <a:srgbClr val="fc9fcb"/>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pendent and dependent variable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6400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The temperature of the warm 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  The temperature of the equilibri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s- Same amount of water for both trials, and same equipment </a:t>
            </a:r>
            <a:endParaRPr b="0" lang="en-US" sz="2800" spc="-1" strike="noStrike">
              <a:solidFill>
                <a:srgbClr val="000000"/>
              </a:solidFill>
              <a:latin typeface="Arial"/>
            </a:endParaRPr>
          </a:p>
        </p:txBody>
      </p:sp>
      <p:graphicFrame>
        <p:nvGraphicFramePr>
          <p:cNvPr id="51" name=""/>
          <p:cNvGraphicFramePr/>
          <p:nvPr/>
        </p:nvGraphicFramePr>
        <p:xfrm>
          <a:off x="1371600" y="4952880"/>
          <a:ext cx="7314840" cy="1173240"/>
        </p:xfrm>
        <a:graphic>
          <a:graphicData uri="http://schemas.openxmlformats.org/drawingml/2006/table">
            <a:tbl>
              <a:tblPr/>
              <a:tblGrid>
                <a:gridCol w="3657240"/>
                <a:gridCol w="3657600"/>
              </a:tblGrid>
              <a:tr h="58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at 90 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at 86.2 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peated tri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peated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50000">
              <a:srgbClr val="fbeac7"/>
            </a:gs>
            <a:gs pos="100000">
              <a:srgbClr val="fee7f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a:t>
            </a:r>
            <a:endParaRPr b="0" lang="en-US" sz="4400" spc="-1" strike="noStrike">
              <a:solidFill>
                <a:srgbClr val="000000"/>
              </a:solidFill>
              <a:latin typeface="Arial"/>
            </a:endParaRPr>
          </a:p>
        </p:txBody>
      </p:sp>
      <p:pic>
        <p:nvPicPr>
          <p:cNvPr id="53" name="" descr=""/>
          <p:cNvPicPr/>
          <p:nvPr/>
        </p:nvPicPr>
        <p:blipFill>
          <a:blip r:embed="rId1"/>
          <a:stretch/>
        </p:blipFill>
        <p:spPr>
          <a:xfrm>
            <a:off x="304920" y="1523880"/>
            <a:ext cx="4991040" cy="2384640"/>
          </a:xfrm>
          <a:prstGeom prst="rect">
            <a:avLst/>
          </a:prstGeom>
          <a:ln w="0">
            <a:noFill/>
          </a:ln>
        </p:spPr>
      </p:pic>
      <p:pic>
        <p:nvPicPr>
          <p:cNvPr id="54" name="" descr=""/>
          <p:cNvPicPr/>
          <p:nvPr/>
        </p:nvPicPr>
        <p:blipFill>
          <a:blip r:embed="rId2"/>
          <a:stretch/>
        </p:blipFill>
        <p:spPr>
          <a:xfrm>
            <a:off x="3962520" y="4191120"/>
            <a:ext cx="4524120" cy="2468520"/>
          </a:xfrm>
          <a:prstGeom prst="rect">
            <a:avLst/>
          </a:prstGeom>
          <a:ln w="0">
            <a:noFill/>
          </a:ln>
        </p:spPr>
      </p:pic>
      <p:sp>
        <p:nvSpPr>
          <p:cNvPr id="55" name=""/>
          <p:cNvSpPr/>
          <p:nvPr/>
        </p:nvSpPr>
        <p:spPr>
          <a:xfrm>
            <a:off x="5562720" y="175248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trial we heated up the water to 82.6 degrees Celsius.</a:t>
            </a:r>
            <a:endParaRPr b="0" lang="en-US" sz="1800" spc="-1" strike="noStrike">
              <a:solidFill>
                <a:srgbClr val="000000"/>
              </a:solidFill>
              <a:latin typeface="Arial"/>
            </a:endParaRPr>
          </a:p>
        </p:txBody>
      </p:sp>
      <p:sp>
        <p:nvSpPr>
          <p:cNvPr id="56" name=""/>
          <p:cNvSpPr/>
          <p:nvPr/>
        </p:nvSpPr>
        <p:spPr>
          <a:xfrm>
            <a:off x="533520" y="5105520"/>
            <a:ext cx="32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trial we heated up the water to 90 degrees Celsi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00"/>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 continued</a:t>
            </a:r>
            <a:endParaRPr b="0" lang="en-US" sz="4400" spc="-1" strike="noStrike">
              <a:solidFill>
                <a:srgbClr val="000000"/>
              </a:solidFill>
              <a:latin typeface="Arial"/>
            </a:endParaRPr>
          </a:p>
        </p:txBody>
      </p:sp>
      <p:graphicFrame>
        <p:nvGraphicFramePr>
          <p:cNvPr id="58" name=""/>
          <p:cNvGraphicFramePr/>
          <p:nvPr/>
        </p:nvGraphicFramePr>
        <p:xfrm>
          <a:off x="1525680" y="1830240"/>
          <a:ext cx="6091200" cy="4064040"/>
        </p:xfrm>
        <a:graphic>
          <a:graphicData uri="http://schemas.openxmlformats.org/presentationml/2006/ole">
            <p:oleObj r:id="rId1" spid="">
              <p:embed/>
              <p:pic>
                <p:nvPicPr>
                  <p:cNvPr id="59" name="" descr=""/>
                  <p:cNvPicPr/>
                  <p:nvPr/>
                </p:nvPicPr>
                <p:blipFill>
                  <a:blip r:embed="rId2"/>
                  <a:stretch/>
                </p:blipFill>
                <p:spPr>
                  <a:xfrm>
                    <a:off x="1525680" y="1830240"/>
                    <a:ext cx="6091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 added the warm water to the ice water, the temperature of the ice water rose rapidly from 4 degrees Celsius to 25 in the first trial. In the second trial the ice water rose from 4 degrees Celsius to 21.5 degrees Celsius. In the first trial the warm water was 90 degrees Celsius. In the second trial the warm water was 82.6  degrees Celsiu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hypothesis was correct but we didn’t think the warm water would loose so much energy. The energy was probably lost somewhere in the air, or it just evaporated.  We calculated the average temperature of the two different waters, and it came to 40 degrees Celsius. From doing the experiment the equilibrium of the two waters was 21.5 degrees Celsiu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eren’t so surprised by our hypothesis becoming true because we knew the energy from the warm water would average out with the cold water. But the equilibrium didn’t come out as predicted. The temperature was way less than we expect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28:59Z</dcterms:created>
  <dc:creator>default</dc:creator>
  <dc:description/>
  <dc:language>en-US</dc:language>
  <cp:lastModifiedBy>default</cp:lastModifiedBy>
  <dcterms:modified xsi:type="dcterms:W3CDTF">2008-01-15T19:19:55Z</dcterms:modified>
  <cp:revision>6</cp:revision>
  <dc:subject/>
  <dc:title>Making our own experiment </dc:title>
</cp:coreProperties>
</file>